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A3F-FC35-4409-9A3D-68C60830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E32-F5E3-4156-A32C-9777E231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F91-8002-4E83-A2B0-8FCA9858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0D8-9038-4E19-8EE4-0C43420B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684-1958-47A4-8549-5E44F67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CA8-857D-4317-A2BC-33A40483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C5B-6B1A-43F5-A2AA-5CAA51DD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095-F70D-40A6-9D89-01185C7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D1A-F95A-4D29-97A0-76E9620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919-236C-4DE9-885F-B53B26E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348-A0BB-46E7-A0D2-1C598E7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21D-9FBF-40A5-A7B0-D0F6B77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BDBA-376D-4811-9B55-846CD57C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25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amos    azules    cómodo    hay    invierno    llevo    mi    que    sudadera    vaquera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________ instituto 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forme, menos m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que queremos. Norm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que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una camiseta. Durante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o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capucha o una chaqu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levo zapatillas deportivas. Es mucho m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ráct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var uni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692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dón    amarilla    anchos    barata    caras    chaqueta    cuero    que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s zapatillas de deporte son más  ____________que las zapatos de cu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 camis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más ____________ que la camiseta roj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quera es más barata que el abrigo de ______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s pantalones son más ____________ que los vaqueros azu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a camisa de ____________ es más bonita ____________ la blusa neg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09:48Z</dcterms:created>
  <dc:creator>Owner1</dc:creator>
  <dc:description/>
  <dc:language>en-US</dc:language>
  <cp:lastModifiedBy>Owner1</cp:lastModifiedBy>
  <dcterms:modified xsi:type="dcterms:W3CDTF">2008-10-14T17:38:10Z</dcterms:modified>
  <cp:revision>1</cp:revision>
  <dc:subject/>
  <dc:title>Slide 1</dc:title>
</cp:coreProperties>
</file>